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DFA9-A284-4BFA-B117-FBD0E0A177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FE4D-88FC-40F4-953C-7359A253E6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5DC4-495B-49B4-BA65-B3EE12F695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7E24-7FA0-4C77-A01B-7089570DD1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0879-55F7-4560-B02B-5C62A51327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8484-0DE1-44C6-8DB9-A5263BAF1D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93F8-74B6-40C6-9A09-2FDB6C2634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69AA-7A27-4580-9487-6CFD3368F0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1BA6-DB05-425B-B731-DC15630C47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C357-B263-49AF-8858-9E30FE760D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12D6-D9B1-442D-94E1-A678B43145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AB25-F649-4D3B-A0EA-CB9A5507C8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5EFA-4EFB-46BA-BA6C-DFC08B714D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B58-F1F1-41C2-BF78-BCBBE0A5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F1D-A484-4B02-AF52-5CA4E09E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26D-5CAD-4018-B7B4-FA4DE452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010C-C539-416C-AEFE-C4F2A07F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D17A-B03C-404D-95A3-6D891D2C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6236-870C-4C68-9CC2-96B93C0A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C783-5FD5-4225-BE8F-A4BD2C1B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4585-2CA9-4CF1-9C14-0641C682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5B2A-B4CA-42B3-A522-FF178843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0214-CE5C-49DD-8842-1329C5E1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C51F-023D-4FD9-971A-0F2FB52E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583-167D-43CA-AB78-8C08E9C6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8D29-9FE1-46B9-B0E1-A59101DD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EAE2-E0B9-4A12-80D2-ADEE3A94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D57F-65FA-49EB-8982-E8EFA973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8D6A-C1E2-45F9-9B66-0B4B699F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69EC-1DCF-43A4-9E86-E93F9339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0B43-8F0C-402A-AE19-3AD73983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72C9D-2825-4E2F-8652-73CBADB8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92899-58FF-4A19-85CF-F58C7A0D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6E068-05C3-4454-939B-035C5C26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632AE-9C52-483A-86C5-F1D49A7A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DB3-7220-4EF4-BD0C-2570A1F5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D7A5E-1E89-4482-9850-7255C172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D77E9-166F-4D63-8678-B8AC2254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DFCE2-69CE-4C52-AFAE-829F74DA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7EDAA-C79C-4461-B233-7F9B8AF2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0B5B-1128-4E4A-B242-D68F7A79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6E659-F21D-4063-BB7E-C9EE6F67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35BC-E020-459A-A1A8-C85EC76C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1A9BB-3C5F-4D4D-9F73-F4B7784A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BA741-3A5C-4B9E-B19E-0C60B3DB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AD6E3-C676-431F-A2DA-CD381BAE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F09-0E8A-4300-BA9E-B19680F8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4A491-9906-4418-A285-8E172A9E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16551-BC3D-4863-8F47-50B5E6FE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3190F-5B58-472B-A5D6-0B017773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2635B-96A2-4A52-B18E-B491849A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F15B8-ED17-410B-A76F-878AD39B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C8A14-3938-4483-84E4-B5F14AB5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EEA5A-F0B0-4551-AED8-6463671A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4DF6B-99E4-40F2-89E2-E330AB59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B8810-2E63-4AB6-91E1-280F33C6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CC1-0710-461E-875F-08586648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7CC-34F2-4E21-BCEE-85674781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C99-8974-4418-9DC7-A95D105D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883-81A8-450C-974A-688D3526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870-B0B6-448A-A2B8-17B7D575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aed2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473D-50D3-463A-B663-DD8F91D4A4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FFAB-83FA-4637-833A-1F060D71EA93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9ed0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ED48-6802-4318-985F-698D929B6B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0812-3477-4077-8CEB-F9D3958DF6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278920" cy="39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тер – класс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Использование приемов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критическо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ления на уроках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в начальных классах»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78920" y="4797000"/>
            <a:ext cx="8425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К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рнеевская средняя школа» Макухина Ю.В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C:\Users\29\Desktop\Снимок.JPG"/>
          <p:cNvPicPr/>
          <p:nvPr/>
        </p:nvPicPr>
        <p:blipFill>
          <a:blip r:embed="rId1"/>
          <a:stretch/>
        </p:blipFill>
        <p:spPr>
          <a:xfrm>
            <a:off x="5778360" y="1554120"/>
            <a:ext cx="27860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осмыс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86920" y="1125360"/>
            <a:ext cx="66978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серт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ометки на по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ение с останов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Тонкие и толстые вопро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Мозговой штур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Фишбоу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заимоопро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3785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Инсерт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Каждому ученику выдается текст и 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очитывание и осмысление текста с последующими пометками на полях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+» - если считают, что это им извест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-» - если считают, что это противоречит тем знаниям, которые у них е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- если то, что прочитали, является нов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?» - если то, что прочитали, оказалось непонятным и требует разъяснени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Систематизация тек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Заполнение таблицы в виде сжатой информации (это может быть слово, фраза, понятие и т.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 Обсуждение в группах по за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 Затем идет межгрупповое обсуждение  каждого столб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13600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авляется индивидуально по результатам работы с текс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2205000"/>
          <a:ext cx="7561440" cy="2087640"/>
        </p:xfrm>
        <a:graphic>
          <a:graphicData uri="http://schemas.openxmlformats.org/drawingml/2006/table">
            <a:tbl>
              <a:tblPr/>
              <a:tblGrid>
                <a:gridCol w="1890720"/>
                <a:gridCol w="1890720"/>
                <a:gridCol w="1889280"/>
                <a:gridCol w="1890720"/>
              </a:tblGrid>
              <a:tr h="135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+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-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Узнал н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</a:t>
                      </a: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</a:t>
                      </a: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73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30"/>
          <p:cNvSpPr/>
          <p:nvPr/>
        </p:nvSpPr>
        <p:spPr>
          <a:xfrm>
            <a:off x="468360" y="450864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териал обсуждается в парах и сообщается учителю, который её фиксирует. Обсуждение позволяет систематизировать информацию и выделить главные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744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Таблица аргументов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71280" y="1052640"/>
            <a:ext cx="727236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даёт аргументы. Учащиеся должны их опровергнуть или подтвердить фактами имеющихся знаний по данн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3357720"/>
          <a:ext cx="7800840" cy="1676160"/>
        </p:xfrm>
        <a:graphic>
          <a:graphicData uri="http://schemas.openxmlformats.org/drawingml/2006/table">
            <a:tbl>
              <a:tblPr/>
              <a:tblGrid>
                <a:gridCol w="2600280"/>
                <a:gridCol w="2600280"/>
                <a:gridCol w="260028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гу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меля в сказке «По щучьему велению» был лентя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д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не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Тонкие и толстые вопросы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836640"/>
          <a:ext cx="7921440" cy="51134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592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нки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лсты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52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гд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ж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уд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г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ак зва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ыло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огласны ли вы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ерн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айте объяснение, почему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дум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счит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 чем разниц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едположите, что будет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46320" y="213840"/>
            <a:ext cx="6867360" cy="6368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рефлекс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971640" y="2997360"/>
            <a:ext cx="7272360" cy="1079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буждение к дальнейшему расши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по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1042920" y="558972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цен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ыработка собственной пози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1042920" y="443700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иобретение новых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971640" y="170028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обмен мнениями о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рефлек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1676160"/>
            <a:ext cx="7920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Перепутанные логические цепо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нового вы узнали на уро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исание синкв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ём «Написание Э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ём «Кла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ем «Горячий сту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3943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ластер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ется как средство для подведения итог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стимул для возникновения новых ассоци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графических изображений нов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Выписывается ключевое сл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Записываются слова и предложения по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Происходит разделение материала на отдельные бл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Устанавливаются и выражаются графически логические связи между бло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оздание группового кластера со словом учитель. Защита кластера группами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560" y="907920"/>
            <a:ext cx="79786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Перепутанные логические цепочки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На доске или карточках написаны термины (последовательность терминов), некоторые из них с ошиб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Группам предлагается исправить ошибки или восстановить порядок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и Программы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подходы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для обучения и оценивание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ИКТ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талантливых и одаренных уче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ние и обучение в соответствии с В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и лидерство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46596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Синквейн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инквейн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это стихотворение, которое требует синтеза информации и материала в кратких выра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авила напис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ая строчка – название темы в одном слове (существитель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ая строчка – описание темы в двух словах (прилагательные или 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ья строчка – описание действия в трёх словах(глаголы или дее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твёртая строчка – это фраза их четырёх слов, показывающая отношение к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ноним из одного слова, который повторяет су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26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ческое задание: составление синквейна к словам мышление, обуч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68598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енику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280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757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повышение эффективности восприятия информаци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интереса как к изучаемому материалу, так и к самому процессу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критически мыслить;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00337f"/>
                </a:solidFill>
                <a:latin typeface="Tahoma"/>
              </a:rPr>
              <a:t>умение ответственно относиться к собственному образованию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работать в сотрудничестве с другим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качества образования учеников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желание и умение стать человеком, который учится в течение вс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80360" cy="15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ителю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7905600" cy="47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создать в классе атмосферу открытости и ответственного сотрудничества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возможность использовать модель обучения и систему эффективных методик, которые способствуют развитию критического мышления и самостоятельности в процессе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стать практиками, которые умеют грамотно анализировать свою деятельность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стать источником ценной профессиональной информации для других учителей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1708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флексия «Пожелание»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95280" y="620280"/>
            <a:ext cx="8137440" cy="46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вам цвести, р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ть, крепить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для дальнего пут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ейшее усло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каждый день и каждый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новой добу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обрым будет ум у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рдце будет ум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от души желаю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, всего хоро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е хорошее,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ся нам недеш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376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дачи Вам во всем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рогие коллеги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Спасибо за внимание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Модуль «Обучение критическому мышлению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Цель данн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 Модул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- развитие мыслительных навыков учащихся, необходимых не только в учёбе, но и в обычной жизни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нный Модуль представляет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собой совокупность разнообразных приёмов, направленных на то, чтобы сначала заинтересовать учени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Данный Модуль-это целостная система,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котора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развивает продуктивное творческое мышление, формирует интеллектуальные умения, навыки работы с информацией,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учит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28760" y="2357280"/>
          <a:ext cx="8143920" cy="3286440"/>
        </p:xfrm>
        <a:graphic>
          <a:graphicData uri="http://schemas.openxmlformats.org/drawingml/2006/table">
            <a:tbl>
              <a:tblPr/>
              <a:tblGrid>
                <a:gridCol w="2714400"/>
                <a:gridCol w="2716200"/>
                <a:gridCol w="2713320"/>
              </a:tblGrid>
              <a:tr h="1624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выз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осмыс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рефлек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1662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аткое обобщение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думчивая работа с новыми понят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грация новых и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181" name="Прямоугольник 11"/>
          <p:cNvSpPr/>
          <p:nvPr/>
        </p:nvSpPr>
        <p:spPr>
          <a:xfrm>
            <a:off x="1143000" y="35712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ад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боты по Модулю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18440" y="578520"/>
            <a:ext cx="5666760" cy="73368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вызов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971640" y="1916280"/>
            <a:ext cx="7272360" cy="863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обуждение интереса и побуждение к рабо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042920" y="3573360"/>
            <a:ext cx="7201080" cy="1079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актуализация (вызов «на поверхность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же имеющихся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1042920" y="5300640"/>
            <a:ext cx="7201080" cy="100800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бесконфликтный обмен мнения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 стадии вызов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26920" y="1267920"/>
            <a:ext cx="763272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Корзина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ы согласны с этим высказывание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Как бы вы прокомментировали эпигра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ерите ли вы, ч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З-Х-У» («знаю-хочу узнать-узнал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859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Верите ли вы, что…»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000" y="1125360"/>
            <a:ext cx="8280360" cy="460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по окончанию семинара, вы что-нибудь возьмёте для своей педагогической копил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устанете сегодня на семина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можно детей научить уч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6859440" cy="68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орзина идей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640" y="98064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такое критическое мышление в вашем понима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111680" y="502920"/>
            <a:ext cx="7135560" cy="6674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осмыс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042920" y="2060640"/>
            <a:ext cx="727236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лучение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116000" y="3933720"/>
            <a:ext cx="720108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истематиз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лассификация, распределение информаци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9</cp:lastModifiedBy>
  <cp:lastPrinted>2013-04-28T11:35:22Z</cp:lastPrinted>
  <dcterms:modified xsi:type="dcterms:W3CDTF">2014-11-17T10:42:26Z</dcterms:modified>
  <cp:revision>65</cp:revision>
  <dc:subject/>
  <dc:title>Современные образовательные технологии</dc:title>
</cp:coreProperties>
</file>